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66F4-4AA8-4EAE-AFAF-DE78B1AB5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9EBE-0FFA-4D14-B71D-B88D063F3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CF4E-8455-40F3-8B75-86027D43C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EB9F-29D2-4EA4-8E9F-F57AC9BA6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1297-3197-4E1A-A2B2-D24C2F0BD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6853-1E7B-44C2-9D8C-43B4E3075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4A66-8B91-4D48-998B-247C00A3E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0C85-5235-4F91-B87F-E88A6A116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F2DC-37AD-48EE-AE0C-9A77FAB39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664C-03DB-4E2D-AB43-E506B15B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9FF1-10C0-4BAF-8787-898AC0DB0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4DB3-8F0C-484A-9662-D75FEBCC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01F55-A72B-427D-B0D4-75D67CA42FBE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3886200"/>
            <a:ext cx="7561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 Administrator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Zhou Jingyu, Liu Xia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9.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ern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Mini Framework with Wizards Management and Registration Mechan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capsulation to Open Tools API and IDE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Enabled/Disabled for Separate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fied Base Classes and Debugging Output Interfa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Switching Support of Multi-Language U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out 100 thousand Lines of Source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Team Struc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Responsibilit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ject Administrator, CVS Insp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eloper, Tester, Document Wri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unication Administrator: Mailing List, BBS, QQ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Leve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ministrator: Project Manager and Team 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P Member: Main Develop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on Member: Code Donator, Document Writ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Project Management Too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velopment Platform: 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irrors: Cosoft, 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Version Control: 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ask Management and Bug-Track Tool: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-based 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ightly-Build: w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cket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meline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’s Fu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: CnPack IDE Wizard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Improve Pascal Script, Provide More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upport to C++Builder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New Features and Bug-Fix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Plan for .NET or Java IDE (Eclipse) Plug-in 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mmunity Building: CnPack Community for Communications of Users and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Buil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Dem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Version: CnWizards 0.8.2 R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scal Script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stomization Build (DI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Environment.: 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Content: Code Input Helper,  Designer/Editor Toolbar, Unit/Form List, Multi-Language,  Wizards Settings, Pascal Script, Source Statistics, Customization Bui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ank You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500280"/>
            <a:ext cx="6400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Q &amp; 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Tea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was Established in 2001 from Delphibbs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bjective: Develop the Tools, Packages and Plug-in Set based on Delphi/C++Buil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embers: Now About 24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s: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,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Component Package, CVSTrac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itiator : Zhou Jingy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dministrator: Zhou Jingyu, Liu Xia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at is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a Free, Open-Source Plug-in Tools Set Used in Delphi / C++ Builder / BDS to Improve our Development Effici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First version of CnPack IDE Wizards is Published in 200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o can Use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Designed to Face the Programmers who Use Delphi 5 6 7 8 2007, C++Builder 5 6 or BDS 2005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Official Version of CnPack IDE Wizards Includes 3 Languages: Simplified Chinese, Traditional Chinese and Engli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rodu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urrent Version of CnPack IDE Wizards: 0.8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Zhou Jingyu,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the Initiator, Administrator, Main Designer and Author of CnPack IDE Wizards is Elected as an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Expert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 20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Users Cover Home and Aboard. CnPack IDE Users are More than 4300 by Upgrade-checking Statisti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Us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ackground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are Famous RAD Development T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Provides Open Tools API in IDE as an Open Plug-in Archite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re’re Similar Foreign Tools, such as GExperts, CodeRush, Castalia, ModelMak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Free Wizards with Chinese UI/Sty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, We Develop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Licen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t’s “CnPack IDE Wizards Licens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rived from the Official Open Source Defi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Commercial Usage of CnPack IDE Wizards Source Code without CnPack Team's Formal Author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is License should be Attach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Express or Implied Warran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ccept NO Liability for any Resul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haracteristic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UI Languages for Users at Home and Abro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werful and Creative. Some Features, such as Input Helper, are Origin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hinese-Style Features Make up of Similar Foreign Products for Chinese Us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omponents, Libraries and Debugging Tools are Attached for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e, Open Source. Open Architecture for Customization Develo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Liu Xiao</dc:creator>
  <dc:description>2001－2007 CnPack Team</dc:description>
  <dc:language>en-US</dc:language>
  <cp:lastModifiedBy>Passion</cp:lastModifiedBy>
  <dcterms:modified xsi:type="dcterms:W3CDTF">2007-07-11T12:53:42Z</dcterms:modified>
  <cp:revision>43</cp:revision>
  <dc:subject/>
  <dc:title>CnPack IDE Wizards Presentation</dc:title>
</cp:coreProperties>
</file>